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bomb.wav" ContentType="audio/x-wav"/>
  <Override PartName="/ppt/media/image3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9C13-8CCD-4AE6-804C-B827BA572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like you wouldn’t like it if someone made decisions that affect your life, neither does your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like you wouldn’t like it if someone made decisions that affect your life, neither does your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what you mean” is wrong for two big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uts off the dialogue because it communicates that there is nothing more to be understood. (Ther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to understand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ommunicates that you are not much interested in listening to the other person anymo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how did that make you feel?” is too overused and is a sure way to shut a teenager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487-FA2B-418F-8700-A42FDE92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FD7-9AC3-47E5-A986-3DC387EE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DA5-AD1C-42FD-B77E-5AC9FBD0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DFD-C478-4145-A440-8839925A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9CDAF-FC09-4E0D-B1D6-90877BCA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0526C-0981-4D12-A487-8813256B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AA19E-F084-4418-8B48-8F1732D1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42696-82A5-4E10-BFC1-8FA5B2FB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05B9-E541-4249-9D19-DC0CDCF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54387-5F78-4B81-AAA4-58744DEF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59909-EF51-4691-A882-E3C8803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E72-92DA-42B4-9E75-38C2880A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FBE17-F7FC-4A93-8509-6E53B45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68B8A-56A3-4131-AAE0-A6B07560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EFAEE-7B70-4A64-8E7E-BB72895B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58DBE-74FB-41BF-BF1C-A296BB7F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233F7-C82B-449B-B678-5807B775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E1C7-1F44-4C4A-A008-BD752EDF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023E0-4C7D-4017-B731-71AF53F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E256-EEF2-4854-A8B0-5A56D009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597B-24CB-4AE7-90DB-EE1D6798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47FE2-0E98-4D7C-B0DA-DF90807C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F90-57B2-4D64-AE39-279E38FB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7DA6-FDE6-4D75-A79F-CEFDB985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0045-A299-40AC-8723-1EB928D5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F9687-109A-4C6C-8C64-34EA6C9E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FDB3-F3FD-4BBD-B775-02104404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F99F7-9694-4CE3-B0D9-1DE79985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4EE1A-309C-48CD-89C7-BFA7BFA6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B15B-7FA5-40DC-92DC-23A37B48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145-84CF-4DDF-9D84-F94D8D23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9F9-FFDE-4251-8294-186BA5BC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0DB-743B-436B-B806-913B31FD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543-9F4E-4C26-A524-AF31C868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85E-4BEE-41C3-8AFD-0E78D366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957-1D9D-4551-9C3E-2CF5B0EA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5857-D243-4A8B-B9ED-7F3A13439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8E97-32CD-4F33-9895-ADF3C427347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B36C-A261-456B-B144-9DB60E097DF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hakespeare.emory.edu/postcarddisplay.cfm?cardid=54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How to Talk to a Brick Wall:</a:t>
            </a:r>
            <a:br>
              <a:rPr sz="3200"/>
            </a:br>
            <a:r>
              <a:rPr b="0" lang="en-US" sz="1700" spc="-1" strike="noStrike">
                <a:solidFill>
                  <a:srgbClr val="000000"/>
                </a:solidFill>
                <a:latin typeface="Broadway"/>
              </a:rPr>
              <a:t>Tearing Down the Barriers between You and Your Teena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essica and En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irewall"/>
          <p:cNvSpPr/>
          <p:nvPr/>
        </p:nvSpPr>
        <p:spPr>
          <a:xfrm>
            <a:off x="0" y="3809880"/>
            <a:ext cx="9144000" cy="3048120"/>
          </a:xfrm>
          <a:prstGeom prst="pie">
            <a:avLst/>
          </a:prstGeom>
          <a:solidFill>
            <a:srgbClr val="ff5c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2590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Jessica and En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352680" y="-78120"/>
            <a:ext cx="5703840" cy="6913800"/>
            <a:chOff x="3352680" y="-78120"/>
            <a:chExt cx="5703840" cy="691380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rcRect l="8353" t="8353" r="8096" b="8096"/>
            <a:stretch/>
          </p:blipFill>
          <p:spPr>
            <a:xfrm>
              <a:off x="3352680" y="4473720"/>
              <a:ext cx="236232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flipV="1">
              <a:off x="5703840" y="-14760"/>
              <a:ext cx="3352680" cy="46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703840" y="-31680"/>
              <a:ext cx="3317760" cy="4573440"/>
            </a:xfrm>
            <a:prstGeom prst="line">
              <a:avLst/>
            </a:prstGeom>
            <a:ln w="19080">
              <a:solidFill>
                <a:srgbClr val="b1f0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681520" y="-78120"/>
              <a:ext cx="3353040" cy="460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3"/>
          <a:srcRect l="8353" t="14475" r="67397" b="74763"/>
          <a:stretch/>
        </p:blipFill>
        <p:spPr>
          <a:xfrm>
            <a:off x="3429000" y="46483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rcRect l="8353" t="14475" r="67397" b="74763"/>
          <a:stretch/>
        </p:blipFill>
        <p:spPr>
          <a:xfrm rot="2074800">
            <a:off x="4756320" y="5224320"/>
            <a:ext cx="761760" cy="338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rcRect l="11019" t="15758" r="67397" b="74763"/>
          <a:stretch/>
        </p:blipFill>
        <p:spPr>
          <a:xfrm rot="21237600">
            <a:off x="4952880" y="6400800"/>
            <a:ext cx="746280" cy="328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rcRect l="11058" t="14475" r="67397" b="74763"/>
          <a:stretch/>
        </p:blipFill>
        <p:spPr>
          <a:xfrm rot="2012400">
            <a:off x="3041640" y="5278320"/>
            <a:ext cx="6094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95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45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95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9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C 0.03056 -0.02847 0.05712 -0.03611 0.09028 -0.05625 C 0.11858 -0.07314 0.12327 -0.07592 0.15105 -0.08611 C 0.15678 -0.08842 0.16216 -0.09351 0.16806 -0.09421 C 0.20382 -0.09814 0.23976 -0.09814 0.2757 -0.1 C 0.329 -0.11412 0.36007 -0.11527 0.38299 -0.18796 C 0.38525 -0.2368 0.38872 -0.29189 0.42553 -0.31203 C 0.43334 -0.3162 0.44254 -0.31875 0.4507 -0.32199 C 0.45625 -0.32685 0.46303 -0.33194 0.46789 -0.33773 C 0.47726 -0.34907 0.48473 -0.36319 0.49323 -0.37569 C 0.49514 -0.3831 0.49862 -0.38634 0.50035 -0.39375 C 0.50209 -0.40231 0.49983 -0.40185 0.5033 -0.40185 E">
                                      <p:cBhvr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0.00787 C -0.02431 0.01481 -0.03542 0.02338 -0.04705 0.02847 C -0.06649 0.03681 -0.1033 0.04005 -0.12378 0.04306 C -0.14167 0.04144 -0.15538 0.04444 -0.1658 0.0169 C -0.16997 -0.02662 -0.19566 -0.05718 -0.21788 -0.07315 C -0.23472 -0.08495 -0.25399 -0.07986 -0.27222 -0.08241 C -0.28108 -0.10671 -0.2691 -0.0706 -0.27656 -0.11019 C -0.27882 -0.1213 -0.28247 -0.13241 -0.28542 -0.14329 C -0.29167 -0.16458 -0.29913 -0.18611 -0.30677 -0.20602 C -0.30816 -0.20995 -0.31076 -0.21319 -0.31215 -0.21713 C -0.31962 -0.23727 -0.32396 -0.26181 -0.33663 -0.27431 C -0.34097 -0.28426 -0.34497 -0.29398 -0.35104 -0.3 C -0.35312 -0.31481 -0.35035 -0.30023 -0.35764 -0.3169 C -0.35868 -0.31852 -0.35937 -0.3287 -0.35972 -0.32963 C -0.36076 -0.33287 -0.36215 -0.33588 -0.36337 -0.33866 C -0.36424 -0.34815 -0.36615 -0.37477 -0.36875 -0.38333 C -0.37031 -0.38843 -0.38385 -0.38843 -0.38646 -0.38866 C -0.39375 -0.39398 -0.39983 -0.39792 -0.40747 -0.39977 C -0.41545 -0.40463 -0.42378 -0.41134 -0.43247 -0.41435 C -0.43715 -0.4162 -0.44688 -0.42014 -0.44688 -0.4206 C -0.45035 -0.42361 -0.45434 -0.43079 -0.45833 -0.43079 E">
                                      <p:cBhvr>
                                        <p:cTn id="40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C -0.01354 -0.00648 -0.02691 -0.01458 -0.0408 -0.01944 C -0.06372 -0.02731 -0.10712 -0.03055 -0.13142 -0.0331 C -0.15278 -0.03171 -0.16892 -0.03403 -0.18125 -0.00879 C -0.18628 0.03241 -0.21649 0.06158 -0.24306 0.07662 C -0.26285 0.08773 -0.28594 0.0831 -0.30712 0.08519 C -0.31771 0.10857 -0.30347 0.07431 -0.3125 0.11134 C -0.31528 0.12222 -0.31927 0.13264 -0.32309 0.14283 C -0.33056 0.16297 -0.33906 0.18334 -0.34809 0.20232 C -0.34983 0.20625 -0.3526 0.2088 -0.35451 0.21273 C -0.36302 0.23172 -0.36823 0.25486 -0.38333 0.26667 C -0.38854 0.27616 -0.39306 0.28519 -0.40035 0.29121 C -0.40295 0.30509 -0.39948 0.29144 -0.40816 0.30695 C -0.4092 0.30857 -0.41042 0.31806 -0.41076 0.31898 C -0.41181 0.32222 -0.41354 0.32477 -0.41476 0.32778 C -0.41615 0.33634 -0.41823 0.36181 -0.42135 0.36968 C -0.42326 0.37454 -0.43906 0.37454 -0.44236 0.375 C -0.45087 0.37986 -0.45816 0.38334 -0.46736 0.38542 C -0.47743 0.39005 -0.48698 0.39607 -0.4974 0.39908 C -0.50313 0.40093 -0.51458 0.40463 -0.51458 0.40486 C -0.5184 0.40787 -0.52309 0.41505 -0.52778 0.41505 E">
                                      <p:cBhvr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alking T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 brie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t them do most of the talk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tch your tone of voice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metimes it isn't what you say -- it's how you say it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press your feeling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veal some of your inner self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hasize your feelings, not your teen's behavio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’t overdo it. Expressing your feelings helps to show you’re a real person, but teens are mostly concerned about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thei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eling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 honest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cuss your ideas, concerns, or thoughts openly and calml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aling with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“I” statements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lassic advice of using “I” statements, instead of critical “you” statements, is still a good 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ally describe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situ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is causing your problem. Just describe; don't blame. Say, "When you don't call or come home at the time we agreed on . . 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effe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situation has on you. ". . . I don't know where you are. . ."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the </a:t>
            </a:r>
            <a:r>
              <a:rPr b="1" lang="en-US" sz="2000" spc="-1" strike="noStrike">
                <a:solidFill>
                  <a:srgbClr val="ebf25a"/>
                </a:solidFill>
                <a:latin typeface="Tahoma"/>
              </a:rPr>
              <a:t>feel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at you have. ". . . and I begin to worry that something might have happened to you.“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ay calm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Yelling doesn’t help you make your poi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ealing with Probl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ick and choose your battl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ings that deal with your teenagers’ safety are more important than a messy room or what they w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ve unconditionally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't give or withhold love based on your teenagers’ behavi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ologize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have done something to aggravate the situation, be the adult and apologize. Set a good example for your teenag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volve your teenagers in decisions that affect them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family may not be a democracy, but getting everyone’s input and trying to compromise when possible is importa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ring on the Show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 let’s see what Mr. Capulet would do if he had heard all this good advice before he talked with Juliet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scene acted out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7848720" y="5867280"/>
          <a:ext cx="914400" cy="7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5867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4"/>
          <a:srcRect l="0" t="3762" r="3936" b="4098"/>
          <a:stretch/>
        </p:blipFill>
        <p:spPr>
          <a:xfrm>
            <a:off x="-152280" y="0"/>
            <a:ext cx="929628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rcRect l="0" t="3762" r="3936" b="4098"/>
          <a:stretch/>
        </p:blipFill>
        <p:spPr>
          <a:xfrm>
            <a:off x="0" y="0"/>
            <a:ext cx="9296280" cy="71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ahoma"/>
              </a:rPr>
              <a:t>When the Drama Begins at Your Home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Things for You to Try This We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you ask “how was your day?” and your teenager actually answers, stop what you’re doing and really list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ciously decide to not criticize or pick about the small stuff—try it for a full week and see what happe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an argument is brewing, stop and calmly talk--without blame--about 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situ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volving the problem,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effec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situation has on you, and the </a:t>
            </a:r>
            <a:r>
              <a:rPr b="1" lang="en-US" sz="2400" spc="-1" strike="noStrike">
                <a:solidFill>
                  <a:srgbClr val="ebf25a"/>
                </a:solidFill>
                <a:latin typeface="Tahoma"/>
              </a:rPr>
              <a:t>feel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at you have--using “I” stat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772400" y="5791320"/>
          <a:ext cx="1219320" cy="95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5791320"/>
                    <a:ext cx="12193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hoto Credi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hotograph is from Matheson Lang's production of 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which opened at the Lyceum Theatre, London, on March 14, 1908, and ran through May 30, 1908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 is a postcard published by Rotary Photo, London. Card No. 7423E. Photograph by the Daily Mirror Studi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ra Kerin as Juliet; Herbert Grimwood as Capule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shakespeare.emory.edu/postcarddisplay.cfm?cardid=54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graph of a bedroom in the Dolmabahce Palace, Istanbul, Turk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grapher: Judi Yost. Used with permis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2960" y="1676520"/>
            <a:ext cx="839520" cy="1371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117648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feren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ulf, Dick. 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ialogue--The Key to Family Harmony.” Focus on the Family. 2004. http://www.focusonyourchild.com/relation/art1/A0000777.html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loyd, Trefor. “Parenting.” BBC. http://www.bbc.co.uk/parenting/your_kids/teen_communicating.shtm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Parent/Child Communication.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Bradley Hospital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lifespan.org/Services/ChildHealth/Parenting/PDF/communication2.PD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vis, Louise. “Parent-Teen Communication.” Mississippi State University Extension. 29 Mar 2004. http://msucares.com/pubs/publications/p1452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8381880" y="617220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</a:pathLst>
          </a:custGeom>
          <a:solidFill>
            <a:srgbClr val="ebf2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turn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Previou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Sli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oes This Sound Like Your Family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lling and threate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ing ultimatum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rowing in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future plans without considering their child’s fee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enag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lling and Cr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y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neaking ou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nning aw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using dru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ying auth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future plans without considering their parents’ feeling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4100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This is a description of Juliet’s family from the play </a:t>
            </a:r>
            <a:r>
              <a:rPr b="0" i="1" lang="en-US" sz="2400" spc="-1" strike="noStrike">
                <a:solidFill>
                  <a:srgbClr val="ffffff"/>
                </a:solidFill>
                <a:latin typeface="Calligraph421 BT"/>
              </a:rPr>
              <a:t>Romeo and Juliet</a:t>
            </a: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…Times haven’t changed mu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3571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990720" y="1219320"/>
            <a:ext cx="8839080" cy="6476760"/>
          </a:xfrm>
          <a:prstGeom prst="irregularSeal2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1252600">
            <a:off x="2635560" y="3435120"/>
            <a:ext cx="61326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Hang thee, young baggage! Disobedient wretch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 tell thee what,--get thee to church o’ Thursda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Or never after look me in the f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peak not, reply not, do not answer me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y fingers itch [to hit you]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rd Capulet to Jul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Romeo and Julie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Act III, scene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28000">
            <a:off x="1904760" y="0"/>
            <a:ext cx="5562360" cy="2590920"/>
          </a:xfrm>
          <a:prstGeom prst="irregularSeal1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242400">
            <a:off x="2376000" y="761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“…</a:t>
            </a: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tell my lord and father, mada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fff"/>
                </a:solidFill>
                <a:latin typeface="Arial"/>
              </a:rPr>
              <a:t>I will not marry yet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0120" y="304920"/>
            <a:ext cx="144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at story didn’t tu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out we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here mu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e a better wa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94600">
            <a:off x="2742840" y="1219320"/>
            <a:ext cx="374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e7ffff"/>
                </a:solidFill>
                <a:latin typeface="Tahoma"/>
              </a:rPr>
              <a:t>Lies! </a:t>
            </a:r>
            <a:r>
              <a:rPr b="1" lang="en-US" sz="1300" spc="-1" strike="noStrike">
                <a:solidFill>
                  <a:srgbClr val="e7ffff"/>
                </a:solidFill>
                <a:latin typeface="Tahoma"/>
              </a:rPr>
              <a:t>She was already married to Rome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e7ffff"/>
                </a:solidFill>
                <a:latin typeface="Tahoma"/>
              </a:rPr>
              <a:t>behind her parents’ back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vey Results from 126 teenagers (58% girls, 42% boy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estion: What is the number one thing your parents 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do to shut down communication between you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4960" y="2867040"/>
          <a:ext cx="82011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867040"/>
                    <a:ext cx="82011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y things that make them “feel bad, disappointed, threatened, stupid or wr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breeds low self-esteem, destroys confidence, encourages performance anxiety, causes distrust, results in avoidance of family events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 to correct, criticize, or change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gue with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y, “I know what you mean” or over-sympathize before you have understan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</a:t>
            </a:r>
            <a:r>
              <a:rPr b="1" i="1" lang="en-US" sz="3800" spc="-1" strike="noStrike">
                <a:solidFill>
                  <a:srgbClr val="ffffcc"/>
                </a:solidFill>
                <a:latin typeface="Tahoma"/>
              </a:rPr>
              <a:t>Not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sh your ideas down your teenagers’ throat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you try to impose your ideas on them, they will most likely reject what you have to offe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ying to mold your teenagers into your own image won’t work. This is the time for them to find out who they are—and it’s not yo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g or complain about a behavior, action, or ina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all the talking, diagnose the problem, and give lots of ad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react if you hear something you don’t like or that worries yo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rupt, correct grammar or do two things at once. These are all signals that you aren't really interested.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open-ended questions that help clarify what the person me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amples: Do you mean…? Why do you think that happened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k their opinion—and want to hear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pt their opinions and what they have to say—it doesn’t mean you agree, but that you 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value their thought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conflict over answers. There are no right or wrong answers”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it comes to opinions.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n in order to understand—not to change the other pers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concern for the other person’s feel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What To Do If You </a:t>
            </a:r>
            <a:r>
              <a:rPr b="0" i="1" lang="en-US" sz="3800" spc="-1" strike="noStrike">
                <a:solidFill>
                  <a:srgbClr val="ffffcc"/>
                </a:solidFill>
                <a:latin typeface="Tahoma"/>
              </a:rPr>
              <a:t>Really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 Want to Talk to Your Teenagers …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time for just talking and, most importantly, for listening every da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 all the informal opportunities you can to communicate - for example, driving.”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’t force the time to talk—make sure that it’s a convenient time for your teenager, to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it a priority to be available even if it's not a convenient time for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try to solve problems when you’re just talking to better understand each other’s viewpoints. That can come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your sense of humor, but never tease about a sensitive subject. Learn to laugh about the small stu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istening Tip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e attentiv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op other activ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cus fully, using your eyes as well as your ear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sensitive to their tone of voice and expressio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courage talk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ile, if appropriate, or nod to show you underst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tch your body languag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ep your questions brief, open, and positiv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mpathize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y to remember what it was like when you were a tee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cus on underlying feelings that your teen may find difficult to expres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isten with respec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ct to your teenager as you would to an adult fri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t them vent their grievanc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y not to interrupt or push a topic they don't want to discuss.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01:25:30Z</dcterms:created>
  <dc:creator>Judi Yost</dc:creator>
  <dc:description/>
  <dc:language>en-US</dc:language>
  <cp:lastModifiedBy>Judi Yost</cp:lastModifiedBy>
  <dcterms:modified xsi:type="dcterms:W3CDTF">2005-01-18T16:22:47Z</dcterms:modified>
  <cp:revision>38</cp:revision>
  <dc:subject/>
  <dc:title>How to Talk to a Brick Wall: Tearing Down the Barriers between You and Your Teenager</dc:title>
</cp:coreProperties>
</file>